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DDFF-6CA5-432F-987C-A0503156B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DF06-9737-4762-8B88-EDAC21DD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8E87-C139-4A35-8668-002E78FC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D1C9-3450-4CED-B572-BB1561D78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4E0E-3A07-428A-9072-28B2C1D0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E670-E638-4D95-A578-46BF7971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B161-79DB-49A4-A994-31E06D7B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8EAD-DA70-495A-8F74-C5F15437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635F-182B-43C4-A93C-59410B7E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66CB-C353-46DC-9C38-4B318F85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1353-15D6-4884-8373-4DD03660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EAB1-4F7E-4853-BC19-B8C8C331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6AC8-AF82-47E1-9CE7-CD8640F4F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2856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cago"/>
              </a:rPr>
              <a:t>Preterite of -ir stem-changing verb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380880" y="4952880"/>
            <a:ext cx="7925040" cy="144792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REÍR (e &gt; 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í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4419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í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íst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6"/>
          <p:cNvSpPr/>
          <p:nvPr/>
        </p:nvSpPr>
        <p:spPr>
          <a:xfrm flipH="1">
            <a:off x="1523520" y="1752480"/>
            <a:ext cx="381240" cy="30492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7"/>
          <p:cNvSpPr/>
          <p:nvPr/>
        </p:nvSpPr>
        <p:spPr>
          <a:xfrm flipH="1">
            <a:off x="1523520" y="3276720"/>
            <a:ext cx="381240" cy="30456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8"/>
          <p:cNvSpPr/>
          <p:nvPr/>
        </p:nvSpPr>
        <p:spPr>
          <a:xfrm flipH="1">
            <a:off x="1371600" y="4952880"/>
            <a:ext cx="380880" cy="30492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9"/>
          <p:cNvSpPr/>
          <p:nvPr/>
        </p:nvSpPr>
        <p:spPr>
          <a:xfrm flipH="1">
            <a:off x="5181120" y="1752480"/>
            <a:ext cx="381240" cy="30492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0"/>
          <p:cNvSpPr/>
          <p:nvPr/>
        </p:nvSpPr>
        <p:spPr>
          <a:xfrm flipH="1">
            <a:off x="5181120" y="3352680"/>
            <a:ext cx="381240" cy="30492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Preterite of -i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stem-changing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re are other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-i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verbs with stem changes in the preterite ten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4"/>
          <p:cNvSpPr/>
          <p:nvPr/>
        </p:nvSpPr>
        <p:spPr>
          <a:xfrm>
            <a:off x="3200400" y="4191120"/>
            <a:ext cx="49528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380880" y="4952880"/>
            <a:ext cx="7925040" cy="144792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DIV</a:t>
            </a:r>
            <a:r>
              <a:rPr b="0" lang="en-US" sz="4400" spc="-1" strike="noStrike">
                <a:solidFill>
                  <a:srgbClr val="ff3300"/>
                </a:solidFill>
                <a:latin typeface="Chicago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RTIRSE (e &gt; 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 divert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 diverti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 div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t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4419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s diverti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s divertist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 div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tie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80880" y="4952880"/>
            <a:ext cx="7925040" cy="144792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M</a:t>
            </a:r>
            <a:r>
              <a:rPr b="0" lang="en-US" sz="4400" spc="-1" strike="noStrike">
                <a:solidFill>
                  <a:srgbClr val="ff3300"/>
                </a:solidFill>
                <a:latin typeface="Chicago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NTIR (e &gt; 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t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ti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t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4419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ti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tist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tie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380880" y="4952880"/>
            <a:ext cx="7925040" cy="144792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S</a:t>
            </a:r>
            <a:r>
              <a:rPr b="0" lang="en-US" sz="4400" spc="-1" strike="noStrike">
                <a:solidFill>
                  <a:srgbClr val="ff3300"/>
                </a:solidFill>
                <a:latin typeface="Chicago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NTIRSE (e &gt; 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 sent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 senti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 s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t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4419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s senti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s sentist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 s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tie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1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380880" y="4952880"/>
            <a:ext cx="7925040" cy="144792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COMP</a:t>
            </a:r>
            <a:r>
              <a:rPr b="0" lang="en-US" sz="4400" spc="-1" strike="noStrike">
                <a:solidFill>
                  <a:srgbClr val="ff3300"/>
                </a:solidFill>
                <a:latin typeface="Chicago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TIR (e &gt; 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et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eti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4419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eti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etist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e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8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3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80880" y="4952880"/>
            <a:ext cx="8458200" cy="144792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DESP</a:t>
            </a:r>
            <a:r>
              <a:rPr b="0" lang="en-US" sz="4400" spc="-1" strike="noStrike">
                <a:solidFill>
                  <a:srgbClr val="ff3300"/>
                </a:solidFill>
                <a:latin typeface="Chicago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DIRSE (e &gt; 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 desped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 despedi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 desp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4197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s  despedi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s despedist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 desp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e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380880" y="4952880"/>
            <a:ext cx="7925040" cy="144792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REP</a:t>
            </a:r>
            <a:r>
              <a:rPr b="0" lang="en-US" sz="4400" spc="-1" strike="noStrike">
                <a:solidFill>
                  <a:srgbClr val="ff3300"/>
                </a:solidFill>
                <a:latin typeface="Chicago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TIR (e &gt; 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pet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peti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p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419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peti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petist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p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e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2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7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380880" y="4952880"/>
            <a:ext cx="7925040" cy="144792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S</a:t>
            </a:r>
            <a:r>
              <a:rPr b="0" lang="en-US" sz="4400" spc="-1" strike="noStrike">
                <a:solidFill>
                  <a:srgbClr val="ff3300"/>
                </a:solidFill>
                <a:latin typeface="Chicago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GUIR (e &gt; 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gu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gui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u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4419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gui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guist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uie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4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380880" y="4952880"/>
            <a:ext cx="7925040" cy="144792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S</a:t>
            </a:r>
            <a:r>
              <a:rPr b="0" lang="en-US" sz="4400" spc="-1" strike="noStrike">
                <a:solidFill>
                  <a:srgbClr val="ff3300"/>
                </a:solidFill>
                <a:latin typeface="Chicago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RVIR (e &gt; 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rv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rvi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v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419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rvi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rvist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vie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1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Preterite of -i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stem-changing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know that stem changes in the present tense take place in all forms except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sotro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osotro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ferir (e &gt; i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f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i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 ver programas deportist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dir (e &gt; 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dimos los espeguetis.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(No chang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380880" y="4952880"/>
            <a:ext cx="7925040" cy="144792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V</a:t>
            </a:r>
            <a:r>
              <a:rPr b="0" lang="en-US" sz="4400" spc="-1" strike="noStrike">
                <a:solidFill>
                  <a:srgbClr val="ff3300"/>
                </a:solidFill>
                <a:latin typeface="Chicago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STIRSE (e &gt; 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 vest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 vesti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 v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4419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s vesti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s vestist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 v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ie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380880" y="4952880"/>
            <a:ext cx="7925040" cy="144792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MORIR (o &gt; u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r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ri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419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ri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rist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e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5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80880" y="4952880"/>
            <a:ext cx="7925040" cy="144792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SONR</a:t>
            </a:r>
            <a:r>
              <a:rPr b="0" lang="en-US" sz="4400" spc="-1" strike="noStrike">
                <a:solidFill>
                  <a:srgbClr val="ff3300"/>
                </a:solidFill>
                <a:latin typeface="Chicago"/>
              </a:rPr>
              <a:t>Eí</a:t>
            </a: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R (e &gt; 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re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reí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r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4419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reí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reíst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r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7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2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áctica: Responde con una frase complet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¿Quién sirvió la cena anoc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¿Qué pediste en el restaurante? ¿Y tus padr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¿Hasta qué hora durmieron tus amig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¿Quién repitió las palabr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¿Quién no siguió las instrucc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Preterite of -i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stem-changing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rmir (o &gt; u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s hermanos d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u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men tar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Preterite of -i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stem-changing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preterite,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-i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verbs lik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referir, pedi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dormi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so have stem changes but only in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Ud./él/ell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Uds./ellos/ella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orm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se forms </a:t>
            </a:r>
            <a:r>
              <a:rPr b="0" i="1" lang="en-US" sz="40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hanges to </a:t>
            </a:r>
            <a:r>
              <a:rPr b="0" i="1" lang="en-US" sz="40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40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hanges to </a:t>
            </a:r>
            <a:r>
              <a:rPr b="0" i="1" lang="en-US" sz="40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"/>
          <p:cNvSpPr/>
          <p:nvPr/>
        </p:nvSpPr>
        <p:spPr>
          <a:xfrm>
            <a:off x="4495680" y="5943600"/>
            <a:ext cx="381024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Preterite of -i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stem-changing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 mamá se aburrió y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e durmió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durante la películ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s padres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prefiriero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ver el concurso de bellez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 la liga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ompitiero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os mejores equipos de Méxic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380880" y="4952880"/>
            <a:ext cx="7925040" cy="144792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PREF</a:t>
            </a:r>
            <a:r>
              <a:rPr b="0" lang="en-US" sz="4400" spc="-1" strike="noStrike">
                <a:solidFill>
                  <a:srgbClr val="ff3300"/>
                </a:solidFill>
                <a:latin typeface="Chicago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RIR (e &gt; 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fer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feri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f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419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feri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ferist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f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e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80880" y="4952880"/>
            <a:ext cx="7925040" cy="144792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P</a:t>
            </a:r>
            <a:r>
              <a:rPr b="0" lang="en-US" sz="4400" spc="-1" strike="noStrike">
                <a:solidFill>
                  <a:srgbClr val="ff3300"/>
                </a:solidFill>
                <a:latin typeface="Chicago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DIR (e &gt; 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d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di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419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di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dist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e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380880" y="4952880"/>
            <a:ext cx="7925040" cy="144792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D</a:t>
            </a:r>
            <a:r>
              <a:rPr b="0" lang="en-US" sz="4400" spc="-1" strike="noStrike">
                <a:solidFill>
                  <a:srgbClr val="ff3300"/>
                </a:solidFill>
                <a:latin typeface="Chicago"/>
              </a:rPr>
              <a:t>O</a:t>
            </a: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RMIR (o &gt; ue,u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rm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rmi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m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4419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rmi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rmist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mie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Preterite of -i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stem-changing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e the special spelling of the preterite forms of reí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1T17:30:58Z</dcterms:created>
  <dc:creator>NIHS</dc:creator>
  <dc:description/>
  <dc:language>en-US</dc:language>
  <cp:lastModifiedBy>Jessica Kaplan</cp:lastModifiedBy>
  <cp:lastPrinted>2011-09-29T15:40:58Z</cp:lastPrinted>
  <dcterms:modified xsi:type="dcterms:W3CDTF">2011-09-29T18:59:43Z</dcterms:modified>
  <cp:revision>10</cp:revision>
  <dc:subject/>
  <dc:title>Preterite of -ir stem-changing verbs</dc:title>
</cp:coreProperties>
</file>